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4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19T16:05:59.351000000" idx="1">
    <p:pos x="5344" y="482"/>
    <p:text/>
  </p:cm>
</p:cmLst>
</file>

<file path=ppt/comments/comment20.xml><?xml version="1.0" encoding="utf-8"?>
<p:cmLst xmlns:p="http://schemas.openxmlformats.org/presentationml/2006/main">
  <p:cm authorId="0" dt="2016-08-19T16:06:07.640000000" idx="2">
    <p:pos x="4331" y="98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1C27-B844-490A-8D3E-820D9BE7DC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4AB-5B0A-4CEB-AAD3-08760DBC0F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生活中的大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851280" y="3500280"/>
            <a:ext cx="42498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19640" y="260028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估算和解决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1"/>
          <p:cNvSpPr/>
          <p:nvPr/>
        </p:nvSpPr>
        <p:spPr>
          <a:xfrm>
            <a:off x="1503360" y="262728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礼堂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座位。一年级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年级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一、二年级同时观看演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估计一下座位是否够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计算。如果够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空几个座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不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差几个座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6"/>
          <p:cNvSpPr/>
          <p:nvPr/>
        </p:nvSpPr>
        <p:spPr>
          <a:xfrm>
            <a:off x="1042920" y="270828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首先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,24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估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结果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把最后结果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座位够不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算出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座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2232000" y="2649600"/>
            <a:ext cx="59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8+247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0+250=50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0=50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8+247=495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95&lt;50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0-495=5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够坐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空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座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55720" y="3071880"/>
            <a:ext cx="72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光明小学三年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计划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纸鹤送给当地医护人员。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每小时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每小时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每小时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估计几小时他们就可以完成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187280" y="2492280"/>
            <a:ext cx="698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几小时能折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要先计算出三年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每小时一共折多少个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+63+78=19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19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年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每小时大约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+200+200=6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估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就可以完成任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1463760" y="3044880"/>
            <a:ext cx="678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+63+78=19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+200+200=6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估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他们就可以完成任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他们就可以完成任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91" name="矩形 1"/>
          <p:cNvSpPr/>
          <p:nvPr/>
        </p:nvSpPr>
        <p:spPr>
          <a:xfrm rot="18297600">
            <a:off x="6089040" y="4651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1908000" y="18464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285+8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1560600" y="33066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85+830=1300+800=2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1187280" y="27874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取近似数后的算式和原来的算式并不相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时不能用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用“≈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计算时用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18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5"/>
          <p:cNvSpPr/>
          <p:nvPr/>
        </p:nvSpPr>
        <p:spPr>
          <a:xfrm rot="18297600">
            <a:off x="5881680" y="4843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 rot="18297600">
            <a:off x="6454800" y="28112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1582560" y="4282920"/>
            <a:ext cx="55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1285+830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</a:rPr>
              <a:t>≈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1300+800=2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4"/>
          <p:cNvSpPr/>
          <p:nvPr/>
        </p:nvSpPr>
        <p:spPr>
          <a:xfrm>
            <a:off x="1908000" y="18464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285+8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1503360" y="2886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85+830=1300+800=2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826920" y="1557360"/>
            <a:ext cx="770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除草机和打浆机大约需要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1327320" y="5289480"/>
            <a:ext cx="58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80+435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0+44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4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5221440" y="4149720"/>
            <a:ext cx="3922560" cy="2571840"/>
            <a:chOff x="5221440" y="4149720"/>
            <a:chExt cx="3922560" cy="2571840"/>
          </a:xfrm>
        </p:grpSpPr>
        <p:pic>
          <p:nvPicPr>
            <p:cNvPr id="231" name="Picture 17" descr="20"/>
            <p:cNvPicPr/>
            <p:nvPr/>
          </p:nvPicPr>
          <p:blipFill>
            <a:blip r:embed="rId1"/>
            <a:stretch/>
          </p:blipFill>
          <p:spPr>
            <a:xfrm>
              <a:off x="6983280" y="414972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AutoShape 16"/>
            <p:cNvSpPr/>
            <p:nvPr/>
          </p:nvSpPr>
          <p:spPr>
            <a:xfrm>
              <a:off x="5221440" y="4581360"/>
              <a:ext cx="2232000" cy="496440"/>
            </a:xfrm>
            <a:prstGeom prst="wedgeRoundRectCallout">
              <a:avLst>
                <a:gd name="adj1" fmla="val 60300"/>
                <a:gd name="adj2" fmla="val 10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买东西时要多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3" name="AF10.EPS" descr="id:2147500152;FounderCES"/>
          <p:cNvPicPr/>
          <p:nvPr/>
        </p:nvPicPr>
        <p:blipFill>
          <a:blip r:embed="rId2"/>
          <a:stretch/>
        </p:blipFill>
        <p:spPr>
          <a:xfrm>
            <a:off x="900000" y="2349360"/>
            <a:ext cx="7417080" cy="20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6161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结合实际情况制订合理的购物方案和购物计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近似数进行估算和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0840" y="3933720"/>
            <a:ext cx="68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在实际生活中的估算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826920" y="15573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脱粒机比电动机大约贵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8"/>
          <p:cNvSpPr/>
          <p:nvPr/>
        </p:nvSpPr>
        <p:spPr>
          <a:xfrm>
            <a:off x="1327320" y="5289480"/>
            <a:ext cx="583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10-77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0-8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5221440" y="4149720"/>
            <a:ext cx="3922560" cy="2571840"/>
            <a:chOff x="5221440" y="4149720"/>
            <a:chExt cx="3922560" cy="2571840"/>
          </a:xfrm>
        </p:grpSpPr>
        <p:pic>
          <p:nvPicPr>
            <p:cNvPr id="238" name="Picture 17" descr="20"/>
            <p:cNvPicPr/>
            <p:nvPr/>
          </p:nvPicPr>
          <p:blipFill>
            <a:blip r:embed="rId1"/>
            <a:stretch/>
          </p:blipFill>
          <p:spPr>
            <a:xfrm>
              <a:off x="6983280" y="414972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AutoShape 16"/>
            <p:cNvSpPr/>
            <p:nvPr/>
          </p:nvSpPr>
          <p:spPr>
            <a:xfrm>
              <a:off x="5221440" y="4581360"/>
              <a:ext cx="2232000" cy="496440"/>
            </a:xfrm>
            <a:prstGeom prst="wedgeRoundRectCallout">
              <a:avLst>
                <a:gd name="adj1" fmla="val 60300"/>
                <a:gd name="adj2" fmla="val 10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约要估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0" name="AF10.EPS" descr="id:2147500152;FounderCES"/>
          <p:cNvPicPr/>
          <p:nvPr/>
        </p:nvPicPr>
        <p:blipFill>
          <a:blip r:embed="rId2"/>
          <a:stretch/>
        </p:blipFill>
        <p:spPr>
          <a:xfrm>
            <a:off x="900000" y="2349360"/>
            <a:ext cx="7417080" cy="2097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4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2"/>
          <p:cNvSpPr/>
          <p:nvPr/>
        </p:nvSpPr>
        <p:spPr>
          <a:xfrm>
            <a:off x="826920" y="1557360"/>
            <a:ext cx="61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丽家离学校大约有多远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AF12.eps" descr="id:2147500231;FounderCES"/>
          <p:cNvPicPr/>
          <p:nvPr/>
        </p:nvPicPr>
        <p:blipFill>
          <a:blip r:embed="rId3"/>
          <a:stretch/>
        </p:blipFill>
        <p:spPr>
          <a:xfrm>
            <a:off x="1820880" y="2424240"/>
            <a:ext cx="4911840" cy="2663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0"/>
          <p:cNvSpPr/>
          <p:nvPr/>
        </p:nvSpPr>
        <p:spPr>
          <a:xfrm>
            <a:off x="2652840" y="5346720"/>
            <a:ext cx="5830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46+297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+3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50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42"/>
          <p:cNvSpPr/>
          <p:nvPr/>
        </p:nvSpPr>
        <p:spPr>
          <a:xfrm>
            <a:off x="826920" y="1557360"/>
            <a:ext cx="61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丽家到小明家大约有多远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AF12.eps" descr="id:2147500231;FounderCES"/>
          <p:cNvPicPr/>
          <p:nvPr/>
        </p:nvPicPr>
        <p:blipFill>
          <a:blip r:embed="rId3"/>
          <a:stretch/>
        </p:blipFill>
        <p:spPr>
          <a:xfrm>
            <a:off x="1820880" y="2424240"/>
            <a:ext cx="4911840" cy="2663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0"/>
          <p:cNvSpPr/>
          <p:nvPr/>
        </p:nvSpPr>
        <p:spPr>
          <a:xfrm>
            <a:off x="2282760" y="5618160"/>
            <a:ext cx="6384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46+297+354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+300+40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5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"/>
          <p:cNvSpPr/>
          <p:nvPr/>
        </p:nvSpPr>
        <p:spPr>
          <a:xfrm>
            <a:off x="900000" y="211572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台电冰箱的价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8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台电视机的价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一台电冰箱的价钱比一台电视机大约贵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1116000" y="3965400"/>
            <a:ext cx="6507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989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9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0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64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6012000" y="1413000"/>
            <a:ext cx="2627280" cy="1368360"/>
            <a:chOff x="6012000" y="1413000"/>
            <a:chExt cx="2627280" cy="1368360"/>
          </a:xfrm>
        </p:grpSpPr>
        <p:sp>
          <p:nvSpPr>
            <p:cNvPr id="267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6012000" y="1625400"/>
              <a:ext cx="2593080" cy="9471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求近似数要用约等于号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Group 23"/>
          <p:cNvGrpSpPr/>
          <p:nvPr/>
        </p:nvGrpSpPr>
        <p:grpSpPr>
          <a:xfrm>
            <a:off x="3205080" y="1312920"/>
            <a:ext cx="2448000" cy="1873080"/>
            <a:chOff x="3205080" y="1312920"/>
            <a:chExt cx="2448000" cy="1873080"/>
          </a:xfrm>
        </p:grpSpPr>
        <p:pic>
          <p:nvPicPr>
            <p:cNvPr id="270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358880" y="1312920"/>
              <a:ext cx="12942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05080" y="1441800"/>
              <a:ext cx="1285560" cy="151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矩形 21"/>
          <p:cNvSpPr/>
          <p:nvPr/>
        </p:nvSpPr>
        <p:spPr>
          <a:xfrm>
            <a:off x="698400" y="3429000"/>
            <a:ext cx="7777440" cy="45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估算方法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加数、被减数和减数分别看成与它们最接近的整十、整百、整千、几千几百……的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进行加减。估算的结果是近似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而不是准确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误差越小的近似数越接近准确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690480" y="5229360"/>
            <a:ext cx="7777080" cy="459720"/>
          </a:xfrm>
          <a:prstGeom prst="rect">
            <a:avLst/>
          </a:prstGeom>
          <a:solidFill>
            <a:srgbClr val="558ed5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制订购物计划要根据实际情况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科学、合理地消费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切不可盲目消费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造成生活上、经济上的压力和浪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2843280" y="4902120"/>
            <a:ext cx="129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7"/>
          <p:cNvSpPr/>
          <p:nvPr/>
        </p:nvSpPr>
        <p:spPr>
          <a:xfrm>
            <a:off x="1063800" y="1773360"/>
            <a:ext cx="424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乐乐的书可能有多少页</a:t>
            </a:r>
            <a:r>
              <a:rPr b="0" lang="en-US" sz="2800" spc="-1" strike="noStrike">
                <a:solidFill>
                  <a:srgbClr val="9933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64" name="AF8.eps" descr="id:2147499843;FounderCES"/>
          <p:cNvPicPr/>
          <p:nvPr/>
        </p:nvPicPr>
        <p:blipFill>
          <a:blip r:embed="rId2"/>
          <a:stretch/>
        </p:blipFill>
        <p:spPr>
          <a:xfrm>
            <a:off x="1332000" y="2637000"/>
            <a:ext cx="6688080" cy="1790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4500720" y="4917960"/>
            <a:ext cx="129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229440" y="4902120"/>
            <a:ext cx="129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椭圆 2"/>
          <p:cNvSpPr/>
          <p:nvPr/>
        </p:nvSpPr>
        <p:spPr>
          <a:xfrm>
            <a:off x="6227640" y="4962600"/>
            <a:ext cx="1297080" cy="698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9"/>
          <p:cNvSpPr/>
          <p:nvPr/>
        </p:nvSpPr>
        <p:spPr>
          <a:xfrm>
            <a:off x="1042920" y="1547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估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下面的手机和照相机大约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41"/>
          <p:cNvGrpSpPr/>
          <p:nvPr/>
        </p:nvGrpSpPr>
        <p:grpSpPr>
          <a:xfrm>
            <a:off x="5398920" y="4124160"/>
            <a:ext cx="3659400" cy="2128680"/>
            <a:chOff x="5398920" y="4124160"/>
            <a:chExt cx="3659400" cy="2128680"/>
          </a:xfrm>
        </p:grpSpPr>
        <p:pic>
          <p:nvPicPr>
            <p:cNvPr id="72" name="Picture 31" descr="20"/>
            <p:cNvPicPr/>
            <p:nvPr/>
          </p:nvPicPr>
          <p:blipFill>
            <a:blip r:embed="rId1"/>
            <a:srcRect l="0" t="9380" r="18957" b="14443"/>
            <a:stretch/>
          </p:blipFill>
          <p:spPr>
            <a:xfrm>
              <a:off x="7307280" y="4294080"/>
              <a:ext cx="17510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AutoShape 32"/>
            <p:cNvSpPr/>
            <p:nvPr/>
          </p:nvSpPr>
          <p:spPr>
            <a:xfrm>
              <a:off x="5398920" y="4124160"/>
              <a:ext cx="2543400" cy="496440"/>
            </a:xfrm>
            <a:prstGeom prst="wedgeRoundRectCallout">
              <a:avLst>
                <a:gd name="adj1" fmla="val 54046"/>
                <a:gd name="adj2" fmla="val 86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买东西要多带点钱，要多估点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44"/>
          <p:cNvGrpSpPr/>
          <p:nvPr/>
        </p:nvGrpSpPr>
        <p:grpSpPr>
          <a:xfrm>
            <a:off x="368280" y="4051440"/>
            <a:ext cx="3698640" cy="1792080"/>
            <a:chOff x="368280" y="4051440"/>
            <a:chExt cx="3698640" cy="1792080"/>
          </a:xfrm>
        </p:grpSpPr>
        <p:pic>
          <p:nvPicPr>
            <p:cNvPr id="75" name="Picture 43" descr="女孩  23"/>
            <p:cNvPicPr/>
            <p:nvPr/>
          </p:nvPicPr>
          <p:blipFill>
            <a:blip r:embed="rId2"/>
            <a:stretch/>
          </p:blipFill>
          <p:spPr>
            <a:xfrm>
              <a:off x="368280" y="4051440"/>
              <a:ext cx="132228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35"/>
            <p:cNvSpPr/>
            <p:nvPr/>
          </p:nvSpPr>
          <p:spPr>
            <a:xfrm>
              <a:off x="1658880" y="4124160"/>
              <a:ext cx="2408040" cy="496440"/>
            </a:xfrm>
            <a:prstGeom prst="wedgeRoundRectCallout">
              <a:avLst>
                <a:gd name="adj1" fmla="val -59055"/>
                <a:gd name="adj2" fmla="val 8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是这样算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CK7.EPS" descr="id:2147500096;FounderCES"/>
          <p:cNvPicPr/>
          <p:nvPr/>
        </p:nvPicPr>
        <p:blipFill>
          <a:blip r:embed="rId3"/>
          <a:stretch/>
        </p:blipFill>
        <p:spPr>
          <a:xfrm>
            <a:off x="1684440" y="2550960"/>
            <a:ext cx="6294240" cy="1474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17"/>
          <p:cNvSpPr/>
          <p:nvPr/>
        </p:nvSpPr>
        <p:spPr>
          <a:xfrm>
            <a:off x="1595520" y="49672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8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4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80+324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5105520" y="507204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8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24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80+324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60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43"/>
          <p:cNvGrpSpPr/>
          <p:nvPr/>
        </p:nvGrpSpPr>
        <p:grpSpPr>
          <a:xfrm>
            <a:off x="5938920" y="1100160"/>
            <a:ext cx="2736360" cy="2270160"/>
            <a:chOff x="5938920" y="1100160"/>
            <a:chExt cx="2736360" cy="2270160"/>
          </a:xfrm>
        </p:grpSpPr>
        <p:sp>
          <p:nvSpPr>
            <p:cNvPr id="85" name="AutoShape 31"/>
            <p:cNvSpPr/>
            <p:nvPr/>
          </p:nvSpPr>
          <p:spPr>
            <a:xfrm>
              <a:off x="5938920" y="1100160"/>
              <a:ext cx="1944720" cy="575280"/>
            </a:xfrm>
            <a:prstGeom prst="wedgeRoundRectCallout">
              <a:avLst>
                <a:gd name="adj1" fmla="val 30805"/>
                <a:gd name="adj2" fmla="val 86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解答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Picture 52" descr="P-055"/>
            <p:cNvPicPr/>
            <p:nvPr/>
          </p:nvPicPr>
          <p:blipFill>
            <a:blip r:embed="rId1"/>
            <a:stretch/>
          </p:blipFill>
          <p:spPr>
            <a:xfrm flipH="1">
              <a:off x="6973560" y="1703160"/>
              <a:ext cx="170172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28"/>
          <p:cNvSpPr/>
          <p:nvPr/>
        </p:nvSpPr>
        <p:spPr>
          <a:xfrm>
            <a:off x="1368360" y="461340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两项收入一共大约是多少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42"/>
          <p:cNvGrpSpPr/>
          <p:nvPr/>
        </p:nvGrpSpPr>
        <p:grpSpPr>
          <a:xfrm>
            <a:off x="392040" y="4816440"/>
            <a:ext cx="3819600" cy="1792440"/>
            <a:chOff x="392040" y="4816440"/>
            <a:chExt cx="3819600" cy="1792440"/>
          </a:xfrm>
        </p:grpSpPr>
        <p:sp>
          <p:nvSpPr>
            <p:cNvPr id="89" name="AutoShape 29"/>
            <p:cNvSpPr/>
            <p:nvPr/>
          </p:nvSpPr>
          <p:spPr>
            <a:xfrm>
              <a:off x="1674720" y="5275080"/>
              <a:ext cx="2536920" cy="575280"/>
            </a:xfrm>
            <a:prstGeom prst="wedgeRoundRectCallout">
              <a:avLst>
                <a:gd name="adj1" fmla="val -57263"/>
                <a:gd name="adj2" fmla="val -416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大约就是要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Picture 40" descr="女孩  23"/>
            <p:cNvPicPr/>
            <p:nvPr/>
          </p:nvPicPr>
          <p:blipFill>
            <a:blip r:embed="rId2"/>
            <a:stretch/>
          </p:blipFill>
          <p:spPr>
            <a:xfrm>
              <a:off x="392040" y="4816440"/>
              <a:ext cx="1322640" cy="179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1308240" y="2165400"/>
            <a:ext cx="5099040" cy="2417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7"/>
          <p:cNvSpPr/>
          <p:nvPr/>
        </p:nvSpPr>
        <p:spPr>
          <a:xfrm>
            <a:off x="1042920" y="1547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是养殖专业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4532400" y="511344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6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3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66+113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5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43"/>
          <p:cNvGrpSpPr/>
          <p:nvPr/>
        </p:nvGrpSpPr>
        <p:grpSpPr>
          <a:xfrm>
            <a:off x="5724360" y="1100160"/>
            <a:ext cx="2950560" cy="2270160"/>
            <a:chOff x="5724360" y="1100160"/>
            <a:chExt cx="2950560" cy="2270160"/>
          </a:xfrm>
        </p:grpSpPr>
        <p:sp>
          <p:nvSpPr>
            <p:cNvPr id="99" name="AutoShape 31"/>
            <p:cNvSpPr/>
            <p:nvPr/>
          </p:nvSpPr>
          <p:spPr>
            <a:xfrm>
              <a:off x="5724360" y="1100160"/>
              <a:ext cx="2158920" cy="575280"/>
            </a:xfrm>
            <a:prstGeom prst="wedgeRoundRectCallout">
              <a:avLst>
                <a:gd name="adj1" fmla="val 30810"/>
                <a:gd name="adj2" fmla="val 93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又怎样解答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52" descr="P-055"/>
            <p:cNvPicPr/>
            <p:nvPr/>
          </p:nvPicPr>
          <p:blipFill>
            <a:blip r:embed="rId1"/>
            <a:stretch/>
          </p:blipFill>
          <p:spPr>
            <a:xfrm flipH="1">
              <a:off x="6973200" y="1703160"/>
              <a:ext cx="170172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Box 28"/>
          <p:cNvSpPr/>
          <p:nvPr/>
        </p:nvSpPr>
        <p:spPr>
          <a:xfrm>
            <a:off x="1506600" y="4613400"/>
            <a:ext cx="65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养鸭收入和养鸡收入相差大约多少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42"/>
          <p:cNvGrpSpPr/>
          <p:nvPr/>
        </p:nvGrpSpPr>
        <p:grpSpPr>
          <a:xfrm>
            <a:off x="295200" y="4875120"/>
            <a:ext cx="3889440" cy="1792440"/>
            <a:chOff x="295200" y="4875120"/>
            <a:chExt cx="3889440" cy="1792440"/>
          </a:xfrm>
        </p:grpSpPr>
        <p:sp>
          <p:nvSpPr>
            <p:cNvPr id="103" name="AutoShape 29"/>
            <p:cNvSpPr/>
            <p:nvPr/>
          </p:nvSpPr>
          <p:spPr>
            <a:xfrm>
              <a:off x="1648080" y="5230800"/>
              <a:ext cx="2536560" cy="575280"/>
            </a:xfrm>
            <a:prstGeom prst="wedgeRoundRectCallout">
              <a:avLst>
                <a:gd name="adj1" fmla="val -62898"/>
                <a:gd name="adj2" fmla="val 74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也有大约，也要估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40" descr="女孩  23"/>
            <p:cNvPicPr/>
            <p:nvPr/>
          </p:nvPicPr>
          <p:blipFill>
            <a:blip r:embed="rId2"/>
            <a:stretch/>
          </p:blipFill>
          <p:spPr>
            <a:xfrm>
              <a:off x="295200" y="4875120"/>
              <a:ext cx="1322640" cy="179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1308240" y="2165400"/>
            <a:ext cx="5099040" cy="24177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7"/>
          <p:cNvSpPr/>
          <p:nvPr/>
        </p:nvSpPr>
        <p:spPr>
          <a:xfrm>
            <a:off x="1042920" y="1547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是养殖专业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4532400" y="511344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66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3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66-113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oup 43"/>
          <p:cNvGrpSpPr/>
          <p:nvPr/>
        </p:nvGrpSpPr>
        <p:grpSpPr>
          <a:xfrm>
            <a:off x="3348000" y="917640"/>
            <a:ext cx="5327280" cy="2452680"/>
            <a:chOff x="3348000" y="917640"/>
            <a:chExt cx="5327280" cy="2452680"/>
          </a:xfrm>
        </p:grpSpPr>
        <p:sp>
          <p:nvSpPr>
            <p:cNvPr id="113" name="AutoShape 31"/>
            <p:cNvSpPr/>
            <p:nvPr/>
          </p:nvSpPr>
          <p:spPr>
            <a:xfrm>
              <a:off x="3348000" y="917640"/>
              <a:ext cx="4743360" cy="575280"/>
            </a:xfrm>
            <a:prstGeom prst="wedgeRoundRectCallout">
              <a:avLst>
                <a:gd name="adj1" fmla="val 39546"/>
                <a:gd name="adj2" fmla="val 13549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组合作，帮强强制定购买计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" name="Picture 52" descr="P-055"/>
            <p:cNvPicPr/>
            <p:nvPr/>
          </p:nvPicPr>
          <p:blipFill>
            <a:blip r:embed="rId1"/>
            <a:stretch/>
          </p:blipFill>
          <p:spPr>
            <a:xfrm flipH="1">
              <a:off x="6973560" y="1703160"/>
              <a:ext cx="170172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Box 17"/>
          <p:cNvSpPr/>
          <p:nvPr/>
        </p:nvSpPr>
        <p:spPr>
          <a:xfrm>
            <a:off x="1042920" y="1547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强强家计划买一台液晶电视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1922400" y="2125800"/>
            <a:ext cx="4162320" cy="1257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1019160" y="3438360"/>
            <a:ext cx="757224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43"/>
          <p:cNvGrpSpPr/>
          <p:nvPr/>
        </p:nvGrpSpPr>
        <p:grpSpPr>
          <a:xfrm>
            <a:off x="5911920" y="1100160"/>
            <a:ext cx="2736360" cy="2270160"/>
            <a:chOff x="5911920" y="1100160"/>
            <a:chExt cx="2736360" cy="2270160"/>
          </a:xfrm>
        </p:grpSpPr>
        <p:sp>
          <p:nvSpPr>
            <p:cNvPr id="123" name="AutoShape 31"/>
            <p:cNvSpPr/>
            <p:nvPr/>
          </p:nvSpPr>
          <p:spPr>
            <a:xfrm>
              <a:off x="5911920" y="1100160"/>
              <a:ext cx="1944720" cy="575280"/>
            </a:xfrm>
            <a:prstGeom prst="wedgeRoundRectCallout">
              <a:avLst>
                <a:gd name="adj1" fmla="val 30805"/>
                <a:gd name="adj2" fmla="val 86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Picture 52" descr="P-055"/>
            <p:cNvPicPr/>
            <p:nvPr/>
          </p:nvPicPr>
          <p:blipFill>
            <a:blip r:embed="rId1"/>
            <a:stretch/>
          </p:blipFill>
          <p:spPr>
            <a:xfrm flipH="1">
              <a:off x="6946560" y="1703160"/>
              <a:ext cx="1701720" cy="166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组合 2"/>
          <p:cNvGrpSpPr/>
          <p:nvPr/>
        </p:nvGrpSpPr>
        <p:grpSpPr>
          <a:xfrm>
            <a:off x="141120" y="3089160"/>
            <a:ext cx="4935600" cy="1792440"/>
            <a:chOff x="141120" y="3089160"/>
            <a:chExt cx="4935600" cy="1792440"/>
          </a:xfrm>
        </p:grpSpPr>
        <p:sp>
          <p:nvSpPr>
            <p:cNvPr id="126" name="AutoShape 29"/>
            <p:cNvSpPr/>
            <p:nvPr/>
          </p:nvSpPr>
          <p:spPr>
            <a:xfrm>
              <a:off x="1557720" y="3392640"/>
              <a:ext cx="3519000" cy="575280"/>
            </a:xfrm>
            <a:prstGeom prst="wedgeRoundRectCallout">
              <a:avLst>
                <a:gd name="adj1" fmla="val -60115"/>
                <a:gd name="adj2" fmla="val -192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强强家每月节余的钱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Picture 40" descr="女孩  23"/>
            <p:cNvPicPr/>
            <p:nvPr/>
          </p:nvPicPr>
          <p:blipFill>
            <a:blip r:embed="rId2"/>
            <a:stretch/>
          </p:blipFill>
          <p:spPr>
            <a:xfrm>
              <a:off x="141120" y="3089160"/>
              <a:ext cx="132264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17"/>
          <p:cNvSpPr/>
          <p:nvPr/>
        </p:nvSpPr>
        <p:spPr>
          <a:xfrm>
            <a:off x="1042920" y="1547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强强家计划买一台液晶电视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1463760" y="4143240"/>
            <a:ext cx="46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8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3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80+1830-15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1922400" y="2125800"/>
            <a:ext cx="4162320" cy="12571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1"/>
          <p:cNvGrpSpPr/>
          <p:nvPr/>
        </p:nvGrpSpPr>
        <p:grpSpPr>
          <a:xfrm>
            <a:off x="5484960" y="3902040"/>
            <a:ext cx="3574440" cy="2020680"/>
            <a:chOff x="5484960" y="3902040"/>
            <a:chExt cx="3574440" cy="2020680"/>
          </a:xfrm>
        </p:grpSpPr>
        <p:pic>
          <p:nvPicPr>
            <p:cNvPr id="132" name="Picture 31" descr="20"/>
            <p:cNvPicPr/>
            <p:nvPr/>
          </p:nvPicPr>
          <p:blipFill>
            <a:blip r:embed="rId4"/>
            <a:srcRect l="0" t="9380" r="18957" b="14443"/>
            <a:stretch/>
          </p:blipFill>
          <p:spPr>
            <a:xfrm>
              <a:off x="7308720" y="3963960"/>
              <a:ext cx="175068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32"/>
            <p:cNvSpPr/>
            <p:nvPr/>
          </p:nvSpPr>
          <p:spPr>
            <a:xfrm>
              <a:off x="5484960" y="3902040"/>
              <a:ext cx="2543040" cy="891000"/>
            </a:xfrm>
            <a:prstGeom prst="wedgeRoundRectCallout">
              <a:avLst>
                <a:gd name="adj1" fmla="val 54032"/>
                <a:gd name="adj2" fmla="val 262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如果买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460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元的，需要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个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Box 22"/>
          <p:cNvSpPr/>
          <p:nvPr/>
        </p:nvSpPr>
        <p:spPr>
          <a:xfrm>
            <a:off x="4429080" y="5516640"/>
            <a:ext cx="3598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0+240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0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43"/>
          <p:cNvGrpSpPr/>
          <p:nvPr/>
        </p:nvGrpSpPr>
        <p:grpSpPr>
          <a:xfrm>
            <a:off x="4959360" y="985680"/>
            <a:ext cx="3715920" cy="2384640"/>
            <a:chOff x="4959360" y="985680"/>
            <a:chExt cx="3715920" cy="2384640"/>
          </a:xfrm>
        </p:grpSpPr>
        <p:sp>
          <p:nvSpPr>
            <p:cNvPr id="140" name="AutoShape 31"/>
            <p:cNvSpPr/>
            <p:nvPr/>
          </p:nvSpPr>
          <p:spPr>
            <a:xfrm>
              <a:off x="4959360" y="985680"/>
              <a:ext cx="2951280" cy="575280"/>
            </a:xfrm>
            <a:prstGeom prst="wedgeRoundRectCallout">
              <a:avLst>
                <a:gd name="adj1" fmla="val 39018"/>
                <a:gd name="adj2" fmla="val 100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如果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8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的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Picture 52" descr="P-055"/>
            <p:cNvPicPr/>
            <p:nvPr/>
          </p:nvPicPr>
          <p:blipFill>
            <a:blip r:embed="rId1"/>
            <a:stretch/>
          </p:blipFill>
          <p:spPr>
            <a:xfrm flipH="1">
              <a:off x="6973560" y="1703160"/>
              <a:ext cx="1701720" cy="166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组合 2"/>
          <p:cNvGrpSpPr/>
          <p:nvPr/>
        </p:nvGrpSpPr>
        <p:grpSpPr>
          <a:xfrm>
            <a:off x="141120" y="3089160"/>
            <a:ext cx="4935600" cy="1792440"/>
            <a:chOff x="141120" y="3089160"/>
            <a:chExt cx="4935600" cy="1792440"/>
          </a:xfrm>
        </p:grpSpPr>
        <p:sp>
          <p:nvSpPr>
            <p:cNvPr id="143" name="AutoShape 29"/>
            <p:cNvSpPr/>
            <p:nvPr/>
          </p:nvSpPr>
          <p:spPr>
            <a:xfrm>
              <a:off x="1557720" y="3392640"/>
              <a:ext cx="3519000" cy="575280"/>
            </a:xfrm>
            <a:prstGeom prst="wedgeRoundRectCallout">
              <a:avLst>
                <a:gd name="adj1" fmla="val -60115"/>
                <a:gd name="adj2" fmla="val -1929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强强家每月节余的钱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Picture 40" descr="女孩  23"/>
            <p:cNvPicPr/>
            <p:nvPr/>
          </p:nvPicPr>
          <p:blipFill>
            <a:blip r:embed="rId2"/>
            <a:stretch/>
          </p:blipFill>
          <p:spPr>
            <a:xfrm>
              <a:off x="141120" y="3089160"/>
              <a:ext cx="132264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Box 17"/>
          <p:cNvSpPr/>
          <p:nvPr/>
        </p:nvSpPr>
        <p:spPr>
          <a:xfrm>
            <a:off x="1042920" y="15476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强强家计划买一台液晶电视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1463760" y="4143240"/>
            <a:ext cx="462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8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3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80+1830-15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≈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1922400" y="2125800"/>
            <a:ext cx="4162320" cy="1257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1"/>
          <p:cNvGrpSpPr/>
          <p:nvPr/>
        </p:nvGrpSpPr>
        <p:grpSpPr>
          <a:xfrm>
            <a:off x="5484960" y="3902040"/>
            <a:ext cx="3574440" cy="2020680"/>
            <a:chOff x="5484960" y="3902040"/>
            <a:chExt cx="3574440" cy="2020680"/>
          </a:xfrm>
        </p:grpSpPr>
        <p:pic>
          <p:nvPicPr>
            <p:cNvPr id="149" name="Picture 31" descr="20"/>
            <p:cNvPicPr/>
            <p:nvPr/>
          </p:nvPicPr>
          <p:blipFill>
            <a:blip r:embed="rId4"/>
            <a:srcRect l="0" t="9380" r="18957" b="14443"/>
            <a:stretch/>
          </p:blipFill>
          <p:spPr>
            <a:xfrm>
              <a:off x="7308720" y="3963960"/>
              <a:ext cx="175068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32"/>
            <p:cNvSpPr/>
            <p:nvPr/>
          </p:nvSpPr>
          <p:spPr>
            <a:xfrm>
              <a:off x="5484960" y="3902040"/>
              <a:ext cx="2543040" cy="891000"/>
            </a:xfrm>
            <a:prstGeom prst="wedgeRoundRectCallout">
              <a:avLst>
                <a:gd name="adj1" fmla="val 54032"/>
                <a:gd name="adj2" fmla="val 262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如果买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980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元的，需要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个月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Box 22"/>
          <p:cNvSpPr/>
          <p:nvPr/>
        </p:nvSpPr>
        <p:spPr>
          <a:xfrm>
            <a:off x="2124000" y="5516640"/>
            <a:ext cx="590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0+2400+2400+240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60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6:18Z</dcterms:modified>
  <cp:revision>317</cp:revision>
  <dc:subject>www.xkb1.com</dc:subject>
  <dc:title>www.xkb1.com</dc:title>
</cp:coreProperties>
</file>